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481-1261-4F1C-B68B-68F572BE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060-97E8-41C8-A422-25DC2BF1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664-1C55-4081-8E3A-637C203A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1FD-6D6F-44D0-812C-576E7BA9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FDAC-3F28-4520-AB89-698D4CCE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0155-6E14-4445-871B-DB0471C9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2EB-DA8D-43BD-B37A-03D02150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3F9E-2658-43FF-B8A0-7EBFAC77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DFF5-405F-4396-BA98-E14E6C42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749A-F9D6-4F8A-B59E-6BDB788F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6695-885F-4EC9-831E-4621EC48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BC6-04E9-418A-81F8-A9D6CA4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AAAE-B23E-418E-B89E-D9A0F44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129E-62B1-4C5C-8E23-7F1D41F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A102-3789-460C-B937-B45D4CB4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8064-D0C6-41BC-903F-42934933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6856-6403-43AC-813A-C309057C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F87C-DA6C-4CD0-A136-13299165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ECA0-CCAD-4816-B6F3-E671CA27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7F7D-5A21-4F8F-AC31-1E639C2A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4CDD-05F9-485C-BA36-CFAC4AF6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E225-A404-400E-AA56-1E2B07E6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F60-75CB-4044-B340-64AFF2FF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0012-D923-482C-AED9-E779E54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F346-CDF9-4C30-AD6A-06C6698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3B5C-A423-4EEC-95D8-91B3A6E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C03E-65BA-470C-B41C-2A775E6F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3F09-88A1-40F9-81AA-103F94C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17A97-9D8D-414E-8347-79EC4FF4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A7AC-4923-445B-82E7-07FA4C2E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560B-0C9C-41D8-A0A4-2D7D8991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C404-01D7-4951-AE8F-E12006EE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D8A1-9528-4C40-9D34-0530A744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7DF-EE44-42D1-871C-318B15AC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433E-1CAD-4091-83A2-F77BC459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00B2-4633-4CA5-8EE5-681CB09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C3AB-ED69-4CD4-BA71-295D302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7C40-DCAC-4231-BEF0-F5DB9154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D8542-207B-491D-9332-851EC72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EE48-C409-4B75-9FBD-E5EB19F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F738-99AD-41D4-B9C1-C768AF0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8A50-D78F-44C9-AD04-1805FE0B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A37A4-D7F4-4C97-937B-09F5884F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7DC0-18A7-4394-9FE6-2AADADD4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7C7-0C7E-415C-B54F-0242D977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2713-F29E-45FC-A869-1264C16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463A9-CFA8-425C-8A6F-B671E2CC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FB66-3099-4716-80A0-FC5BC304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2FA54-9CB2-4099-8704-8CD9FBF4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B785-F905-4E44-AEED-05679BFB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2706-092B-4403-8861-F0218E1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DB0CB-4D50-42C8-992B-4615830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7DE7-E50F-4294-A471-FA4ED03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5A774-15F6-4504-85EB-CD530DB6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94AE-391E-4BEE-A0F2-A05BCF59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539640"/>
            <a:ext cx="88045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02D-EB41-4D90-8613-93812FAF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1612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2960" y="176796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928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1612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2960" y="4408200"/>
            <a:ext cx="283464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BC956-B2F5-41DB-94CD-5CC64126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9B8-501E-4FE2-AB5C-091A9AF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1160" y="440820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13E-A546-4C9E-B7C0-C25C88F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1160" y="1767960"/>
            <a:ext cx="429660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408200"/>
            <a:ext cx="8804520" cy="241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A29-8558-4168-BC06-300F946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4392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68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3E913-1A2A-4433-8785-4794A3187A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9CA9D-41BA-45F4-92CF-3A6861CD2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390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580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63640" y="6094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203720" y="670716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15000" y="670716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BBC4E-1F6D-46AA-8B53-01948EEDB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C42B3-6A38-46F1-9204-771F7BB8B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8804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9280" y="1767960"/>
            <a:ext cx="88045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39640" y="6996240"/>
            <a:ext cx="2322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71480" y="6996240"/>
            <a:ext cx="31654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7080" y="6996240"/>
            <a:ext cx="2322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2660E-0D29-4C6A-B56A-409D744370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5943600"/>
            <a:ext cx="4800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y :Hay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29040" y="6858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 Family Tre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00200" y="5742000"/>
            <a:ext cx="7086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 Mary 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nest when they got marri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971800" y="914400"/>
            <a:ext cx="3429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20844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mily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743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an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914400"/>
            <a:ext cx="27432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600200"/>
            <a:ext cx="2514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286000"/>
            <a:ext cx="6629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4200480"/>
            <a:ext cx="4343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job is going to scho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971800"/>
            <a:ext cx="3200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twin s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 name is Jor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914400"/>
            <a:ext cx="2482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828800"/>
            <a:ext cx="7086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057400"/>
            <a:ext cx="4160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in 7-8-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456000"/>
            <a:ext cx="3044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3456000"/>
            <a:ext cx="411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 student at Tp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277020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and lives in Jaspe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371600"/>
            <a:ext cx="228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00120"/>
            <a:ext cx="5943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1700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487760"/>
            <a:ext cx="3886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had two daugh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yli and Jordan that were born on 2002 July,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3886200"/>
            <a:ext cx="4800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orks at the hosp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2658960"/>
            <a:ext cx="4800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in Jasper and lives in Jas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855800"/>
            <a:ext cx="457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born in Oct 3 ,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7400" y="5943600"/>
            <a:ext cx="5486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my mom my sister and 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828720"/>
            <a:ext cx="34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18288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August 25, 19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2514600"/>
            <a:ext cx="4703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married to Vern in 20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344760"/>
            <a:ext cx="4800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had two two daughter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was born in -Oct 3 ,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ndy was born in -June 5 ,19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828720"/>
            <a:ext cx="20559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371600"/>
            <a:ext cx="1371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rand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716360"/>
            <a:ext cx="4572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 job is teaching she has been teaching for 40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14400" y="719280"/>
            <a:ext cx="86868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 Great Grandfath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5486400"/>
            <a:ext cx="8229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ward's jobs were farming ,He was a Firefighter for the city of New Bern, and a Deputy with Craven Cou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29718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married D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487760"/>
            <a:ext cx="8229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one daughter on  August 25,1948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r name was  Laur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6400800"/>
            <a:ext cx="457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67 when 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090880"/>
            <a:ext cx="28036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19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in 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9240" y="359244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 do not know when they got mar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rcRect l="4949" t="0" r="34648" b="0"/>
          <a:stretch/>
        </p:blipFill>
        <p:spPr>
          <a:xfrm>
            <a:off x="3200400" y="685800"/>
            <a:ext cx="368460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5715000"/>
            <a:ext cx="8915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Edward when he was 5 years old and got his first s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85800"/>
            <a:ext cx="182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143000"/>
            <a:ext cx="4114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1828800"/>
            <a:ext cx="6172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18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in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3654360"/>
            <a:ext cx="5943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three girls and one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259160"/>
            <a:ext cx="7543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s of girls-Mamie Laura, Lula, Julia Man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of Boy- Ed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9066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married Ernest in 19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5284800"/>
            <a:ext cx="6400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died when she was 95 when s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25424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reat Great Grandm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3:06:37Z</dcterms:created>
  <dc:creator/>
  <dc:description/>
  <dc:language>en-US</dc:language>
  <cp:lastModifiedBy/>
  <cp:revision>1</cp:revision>
  <dc:subject/>
  <dc:title/>
</cp:coreProperties>
</file>